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3583-8CC9-4B3B-97CE-E743AF2F2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24DA-A3F9-4292-A2B0-0EB380B61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5A6E-5EC7-4311-8559-EF490068B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1982-77AE-4DDC-B8B7-93ADCFF99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2F9F-80D6-4C8B-8198-396FF128F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B79A-B2E0-499C-9C2C-BDBB0A681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242A-8EF6-4CB8-82FE-25B247E62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86B9-4610-4161-AFE1-02C492A0D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5C77-3E4C-4F0B-990D-5CFD74998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64F0-2816-4E9F-8C3D-33C11E9BB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368A-99D2-4FD8-B577-E33A373C5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C670-558C-4D88-B2C3-59D558D86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A67-A52C-4563-A691-BC02DBCA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785-97C4-4F9D-8B04-C3F27A97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F69-BBDC-4D8D-90B0-ECC64557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1D6-DD92-4146-B096-21FB4000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3E0-29EF-4C09-AF0A-7F9D2707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A13-D0D6-4FB9-91BE-512913FD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D43-98C1-4021-9514-69F78FAD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7B9-E4A8-4821-9EF3-2FDEB740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31A-AF66-4E86-8D58-04261792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8FE-FDF9-4659-B0B8-5C489F45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CD4-0049-4317-9135-56BBE8C3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E63-16BE-433B-BC59-37A2797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C91D-756D-4E2B-8E38-CD6D80658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Kim Thomas\Pictures\Ian Jukes\Home Page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Kim Thomas\Pictures\Ian Jukes\digital bit.JPG"/>
          <p:cNvPicPr/>
          <p:nvPr/>
        </p:nvPicPr>
        <p:blipFill>
          <a:blip r:embed="rId1"/>
          <a:stretch/>
        </p:blipFill>
        <p:spPr>
          <a:xfrm>
            <a:off x="2514600" y="304920"/>
            <a:ext cx="4794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Kim Thomas\Pictures\Ian Jukes\digital bit wordle.JPG"/>
          <p:cNvPicPr/>
          <p:nvPr/>
        </p:nvPicPr>
        <p:blipFill>
          <a:blip r:embed="rId1"/>
          <a:stretch/>
        </p:blipFill>
        <p:spPr>
          <a:xfrm>
            <a:off x="171360" y="762120"/>
            <a:ext cx="8820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Kim Thomas\Pictures\Ian Jukes\funny stuff.JPG"/>
          <p:cNvPicPr/>
          <p:nvPr/>
        </p:nvPicPr>
        <p:blipFill>
          <a:blip r:embed="rId1"/>
          <a:stretch/>
        </p:blipFill>
        <p:spPr>
          <a:xfrm>
            <a:off x="304920" y="76320"/>
            <a:ext cx="855648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Kim Thomas\Pictures\Ian Jukes\clipping photos and such.JPG"/>
          <p:cNvPicPr/>
          <p:nvPr/>
        </p:nvPicPr>
        <p:blipFill>
          <a:blip r:embed="rId1"/>
          <a:stretch/>
        </p:blipFill>
        <p:spPr>
          <a:xfrm>
            <a:off x="415800" y="106200"/>
            <a:ext cx="819468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Kim Thomas\Pictures\Ian Jukes\dog and tigers.JPG"/>
          <p:cNvPicPr/>
          <p:nvPr/>
        </p:nvPicPr>
        <p:blipFill>
          <a:blip r:embed="rId1"/>
          <a:stretch/>
        </p:blipFill>
        <p:spPr>
          <a:xfrm>
            <a:off x="1676520" y="1371600"/>
            <a:ext cx="61117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Kim Thomas\Pictures\Ian Jukes\squirrel.JPG"/>
          <p:cNvPicPr/>
          <p:nvPr/>
        </p:nvPicPr>
        <p:blipFill>
          <a:blip r:embed="rId1"/>
          <a:stretch/>
        </p:blipFill>
        <p:spPr>
          <a:xfrm>
            <a:off x="1523880" y="1371600"/>
            <a:ext cx="61801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Kim Thomas\Pictures\Ian Jukes\giraffe.JPG"/>
          <p:cNvPicPr/>
          <p:nvPr/>
        </p:nvPicPr>
        <p:blipFill>
          <a:blip r:embed="rId1"/>
          <a:stretch/>
        </p:blipFill>
        <p:spPr>
          <a:xfrm>
            <a:off x="2944800" y="885960"/>
            <a:ext cx="2987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Kim Thomas\Pictures\Ian Jukes\fro your printing.JPG"/>
          <p:cNvPicPr/>
          <p:nvPr/>
        </p:nvPicPr>
        <p:blipFill>
          <a:blip r:embed="rId1"/>
          <a:stretch/>
        </p:blipFill>
        <p:spPr>
          <a:xfrm>
            <a:off x="1789200" y="380880"/>
            <a:ext cx="56052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Kim Thomas\Pictures\Ian Jukes\chicago fountain.JPG"/>
          <p:cNvPicPr/>
          <p:nvPr/>
        </p:nvPicPr>
        <p:blipFill>
          <a:blip r:embed="rId1"/>
          <a:stretch/>
        </p:blipFill>
        <p:spPr>
          <a:xfrm>
            <a:off x="1219320" y="533520"/>
            <a:ext cx="72151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Kim Thomas\Pictures\Ian Jukes\funny stuff.JPG"/>
          <p:cNvPicPr/>
          <p:nvPr/>
        </p:nvPicPr>
        <p:blipFill>
          <a:blip r:embed="rId1"/>
          <a:stretch/>
        </p:blipFill>
        <p:spPr>
          <a:xfrm>
            <a:off x="609480" y="152280"/>
            <a:ext cx="8209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3:30:25Z</dcterms:created>
  <dc:creator>Kim Thomas</dc:creator>
  <dc:description/>
  <dc:language>en-US</dc:language>
  <cp:lastModifiedBy>Kim Thomas</cp:lastModifiedBy>
  <dcterms:modified xsi:type="dcterms:W3CDTF">2010-10-11T03:39:46Z</dcterms:modified>
  <cp:revision>1</cp:revision>
  <dc:subject/>
  <dc:title>Slide 1</dc:title>
</cp:coreProperties>
</file>